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B86-5436-452D-A471-0248CC04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000-9462-4E8E-9F70-634DFDF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57B-5A89-4D11-A45F-3164A866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D4A-DD02-4BDD-A8FA-C3C77826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AF65-8561-49DB-94D8-46BEADAD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8F7F-88CE-426D-ACB6-3A866639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04CA-0F74-423A-B555-F4495AEA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BAE3-A7E8-4810-82EE-A15C7D69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F84-285C-4915-9930-975A886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1582-8E97-450C-8609-528B0EC4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8A39-7D35-44E0-A904-BCA1074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EF1-75E1-48F4-9339-737029CD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AA2D-1740-4E91-9F4B-3DDC6EE8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AFDA-9413-4CC8-B49B-68980854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4F8F-130E-455D-8C8E-9A9E1742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EF3A-1609-4070-A660-D6C52DCE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B89C-BFD3-4FD0-80D6-76BE1BD5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115-F607-4E06-86E1-16DBA9B6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9DD-04C8-44AA-BCC6-0774CB2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685-1BA4-4839-938C-B6CB90D3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977-C8FB-4690-BA71-1BFB7A8F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32B-EDD4-468D-BD1B-EFD0A377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EB4-AFBF-413A-A6CA-D726001A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FF4-CEA6-4A0C-A868-8690F542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D339-03AD-47D2-920A-3891E3DC4B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1F1-6C5E-4F34-9EDD-2A0AF44B96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197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ема проекта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781000"/>
            <a:ext cx="60325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f2378"/>
                </a:solidFill>
                <a:latin typeface="Comic Sans MS"/>
              </a:rPr>
              <a:t>Площадь окружающих предме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чебные предметы: геоме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770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Comic Sans MS"/>
              </a:rPr>
              <a:t>ОСНОВОПОЛАГАЮЩИЙ ВОПРОС: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Какова площад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     </a:t>
            </a: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необъятног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         </a:t>
            </a:r>
            <a:r>
              <a:rPr b="1" lang="en-US" sz="5400" spc="-1" strike="noStrike">
                <a:solidFill>
                  <a:srgbClr val="800080"/>
                </a:solidFill>
                <a:latin typeface="Comic Sans MS"/>
              </a:rPr>
              <a:t>пространств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Дидактические 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omic Sans MS"/>
              </a:rPr>
              <a:t>Познакомиться с понятием о площади плоских фигур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omic Sans MS"/>
              </a:rPr>
              <a:t>Узнать площадь прямоугольника, параллелограмма, треугольника и трапе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omic Sans MS"/>
              </a:rPr>
              <a:t>Узнать формулы, выражающие площадь треугольника через две стороны и угол между ни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Узнать площадь четырехугольника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Методические задач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Расширить и обобщить знания учащихся о многоугольниках; сформировать представление о «составных частях» многоугольни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Развивать умение анализировать, сравнивать, делать выводы, развивать самостоятельность в мышлении и учебной деятельности, развивать исследовательскую и познавательную деятель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Воспитывать самостоятельность, активность, ответственность за порученное дело, упорство в достижении поставленной цел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роблемные вопросы учебной деятельност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Comic Sans MS"/>
              </a:rPr>
              <a:t>Можно ли в жизни обойтись без формул вычисления площади многоугольник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Comic Sans MS"/>
              </a:rPr>
              <a:t>Как найти площадь дачного участка?</a:t>
            </a: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Может ли человек обойтись без знания геометр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Учебные вопрос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Что такое площадь плоских фигур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Что принимают за единицу измерения площад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В каких единицах измеряется площад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измеряются площади многоугольни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квадрат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прямоугольни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параллелограмм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ить площадь треугольника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ромб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Comic Sans MS"/>
              </a:rPr>
              <a:t>Как вычисляется площадь трапеции?</a:t>
            </a: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Темы самостоятельных исследован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Comic Sans MS"/>
              </a:rPr>
              <a:t>Где в нашей жизни применяются многоугольни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Comic Sans MS"/>
              </a:rPr>
              <a:t>Виды многоугольни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Comic Sans MS"/>
              </a:rPr>
              <a:t>Основные свойства и формулы многоугольни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Этапы и сроки провед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978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этап: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8f2378"/>
                </a:solidFill>
                <a:latin typeface="Comic Sans MS"/>
              </a:rPr>
              <a:t>Формирование тем исследований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(1 уро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I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этап: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8f2378"/>
                </a:solidFill>
                <a:latin typeface="Comic Sans MS"/>
              </a:rPr>
              <a:t>Формирование групп для проведения исследований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(1 уро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II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этап: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8f2378"/>
                </a:solidFill>
                <a:latin typeface="Comic Sans MS"/>
              </a:rPr>
              <a:t>Выбор творческого названия проекта, работа в группах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(1 уро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V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этап: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8f2378"/>
                </a:solidFill>
                <a:latin typeface="Comic Sans MS"/>
              </a:rPr>
              <a:t>Самостоятельная работа групп по выполнению заданий, подготовка учащимися презентации и публикации</a:t>
            </a:r>
            <a:r>
              <a:rPr b="0" lang="ru-RU" sz="2400" spc="-1" strike="noStrike">
                <a:solidFill>
                  <a:srgbClr val="8f2378"/>
                </a:solidFill>
                <a:latin typeface="Comic Sans MS"/>
              </a:rPr>
              <a:t>       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(2 уро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Результаты работы: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7640" y="2204640"/>
            <a:ext cx="64724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Comic Sans MS"/>
              </a:rPr>
              <a:t>Букл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Comic Sans MS"/>
              </a:rPr>
              <a:t>Презентац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2:34:05Z</dcterms:created>
  <dc:creator>Liza</dc:creator>
  <dc:description/>
  <dc:language>en-US</dc:language>
  <cp:lastModifiedBy>Liza</cp:lastModifiedBy>
  <dcterms:modified xsi:type="dcterms:W3CDTF">2010-05-27T14:39:33Z</dcterms:modified>
  <cp:revision>6</cp:revision>
  <dc:subject/>
  <dc:title>Тема проекта:</dc:title>
</cp:coreProperties>
</file>